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B2F9A3-ED55-4BEE-8296-8666376C3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842A00-1142-4B91-BD4E-91515E446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6A40B-6A48-44ED-9D02-E1FD2C398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9698E1-A650-422F-87AD-8055222C6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2BA1C-1DCE-436E-A02E-A7B08EDA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FEBF-18AF-4CE0-A0BD-E82FC2125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B5E18-576D-4A29-8CE7-8A25C749D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24EB-6033-422E-9237-0DC41EFB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E4F7-1B63-44D0-90B8-94F0515B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D72EB-D2D1-4BC9-9A0F-1C8FFC2C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90C35-A5A8-43B6-98A3-B0024DFF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1BFC67-12DF-4A17-8472-8DC40BFE2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2501D-877C-414B-9E41-B79866029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DFA1A-CB68-4AF5-BC46-296FC8049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8945FB-CAAC-4996-ACF7-0AC76D28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8466-D7ED-452D-BC03-8125EE75C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9EF45-D7EB-4EB2-8691-9D37731D6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C8D49-B213-4BD4-AB9F-58B01010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DC7FC7-0A49-4714-B340-F734AF5B9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51D356-151C-400F-8F3A-393DE684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3B90F-16AE-443F-BA02-2F7834C6E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50DA8-FFE0-4FF3-86DF-01CC11910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85767-2DA8-467E-8BE7-07FF1F40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2FCB50-942C-4B2C-A292-86375877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1A1E1-C71E-4C6B-9692-93D94AAEFBD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20870-A89F-46A9-9840-FC3861CF1A4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reate sophisticated event-driven web applications from simple panel objects”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ompariso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tandard CGI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ad http head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Process parameters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trieve/set up state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Lots of ifs, elsifs etc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Output htm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CGI::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t up application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loop {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Respond to event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Display each pan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GI::Panel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fferent Approach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istribution of Logic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mple ‘driver’ CGI script + panel classes inherited from CGI::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ogical way to write an interfa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Application Design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1886040" y="2363760"/>
            <a:ext cx="5371920" cy="1828800"/>
            <a:chOff x="1886040" y="2363760"/>
            <a:chExt cx="5371920" cy="1828800"/>
          </a:xfrm>
        </p:grpSpPr>
        <p:cxnSp>
          <p:nvCxnSpPr>
            <p:cNvPr id="106" name="_s11284"/>
            <p:cNvCxnSpPr>
              <a:stCxn id="107" idx="0"/>
              <a:endCxn id="108" idx="2"/>
            </p:cNvCxnSpPr>
            <p:nvPr/>
          </p:nvCxnSpPr>
          <p:spPr>
            <a:xfrm flipV="1" rot="16200000">
              <a:off x="6057360" y="3220200"/>
              <a:ext cx="229320" cy="8006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09" name="_s11282"/>
            <p:cNvCxnSpPr>
              <a:stCxn id="110" idx="0"/>
              <a:endCxn id="108" idx="2"/>
            </p:cNvCxnSpPr>
            <p:nvPr/>
          </p:nvCxnSpPr>
          <p:spPr>
            <a:xfrm flipH="1" flipV="1" rot="5400000">
              <a:off x="5257440" y="3220200"/>
              <a:ext cx="229320" cy="80100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1" name="_s11278"/>
            <p:cNvCxnSpPr>
              <a:stCxn id="108" idx="0"/>
              <a:endCxn id="112" idx="2"/>
            </p:cNvCxnSpPr>
            <p:nvPr/>
          </p:nvCxnSpPr>
          <p:spPr>
            <a:xfrm flipV="1" rot="16200000">
              <a:off x="5057280" y="2334240"/>
              <a:ext cx="229320" cy="120096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3" name="_s11277"/>
            <p:cNvCxnSpPr>
              <a:stCxn id="114" idx="0"/>
              <a:endCxn id="112" idx="2"/>
            </p:cNvCxnSpPr>
            <p:nvPr/>
          </p:nvCxnSpPr>
          <p:spPr>
            <a:xfrm flipH="1" flipV="1" rot="5400000">
              <a:off x="4257360" y="2734560"/>
              <a:ext cx="229320" cy="4006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cxnSp>
          <p:nvCxnSpPr>
            <p:cNvPr id="115" name="_s11276"/>
            <p:cNvCxnSpPr>
              <a:stCxn id="116" idx="0"/>
              <a:endCxn id="112" idx="2"/>
            </p:cNvCxnSpPr>
            <p:nvPr/>
          </p:nvCxnSpPr>
          <p:spPr>
            <a:xfrm flipH="1" flipV="1" rot="5400000">
              <a:off x="3457440" y="1934640"/>
              <a:ext cx="229320" cy="20008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ffffff"/>
              </a:solidFill>
              <a:miter/>
            </a:ln>
          </p:spPr>
        </p:cxnSp>
        <p:sp>
          <p:nvSpPr>
            <p:cNvPr id="112" name="_s11272"/>
            <p:cNvSpPr/>
            <p:nvPr/>
          </p:nvSpPr>
          <p:spPr>
            <a:xfrm>
              <a:off x="3886200" y="23637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mpleAp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_s11273"/>
            <p:cNvSpPr/>
            <p:nvPr/>
          </p:nvSpPr>
          <p:spPr>
            <a:xfrm>
              <a:off x="18860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_s11274"/>
            <p:cNvSpPr/>
            <p:nvPr/>
          </p:nvSpPr>
          <p:spPr>
            <a:xfrm>
              <a:off x="34862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Baske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_s11275"/>
            <p:cNvSpPr/>
            <p:nvPr/>
          </p:nvSpPr>
          <p:spPr>
            <a:xfrm>
              <a:off x="5086440" y="30495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Sidebar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_s11281"/>
            <p:cNvSpPr/>
            <p:nvPr/>
          </p:nvSpPr>
          <p:spPr>
            <a:xfrm>
              <a:off x="42861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MainMenu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_s11283"/>
            <p:cNvSpPr/>
            <p:nvPr/>
          </p:nvSpPr>
          <p:spPr>
            <a:xfrm>
              <a:off x="5886360" y="3735360"/>
              <a:ext cx="1371600" cy="457200"/>
            </a:xfrm>
            <a:prstGeom prst="roundRect">
              <a:avLst>
                <a:gd name="adj" fmla="val 16667"/>
              </a:avLst>
            </a:prstGeom>
            <a:solidFill>
              <a:srgbClr val="0099cc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Garamond"/>
                </a:rPr>
                <a:t>Detai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How this could look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uld look like this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209680"/>
            <a:ext cx="5638680" cy="3048120"/>
          </a:xfrm>
          <a:prstGeom prst="rect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828800" y="2514600"/>
            <a:ext cx="152388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733920" y="2514600"/>
            <a:ext cx="144756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514600"/>
            <a:ext cx="1447920" cy="2438280"/>
          </a:xfrm>
          <a:prstGeom prst="rect">
            <a:avLst/>
          </a:prstGeom>
          <a:solidFill>
            <a:srgbClr val="8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715000" y="2743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715000" y="3886200"/>
            <a:ext cx="990720" cy="838080"/>
          </a:xfrm>
          <a:prstGeom prst="rect">
            <a:avLst/>
          </a:prstGeom>
          <a:solidFill>
            <a:srgbClr val="cc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Benefi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early defined separation of code into easily manageable chunk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ll the benefits of OO programming – inheritance, polymorphism, encapsulat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Reduced development tim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asy restructuring and mainten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pplication design is implicit in panel hierarchy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8520" indent="-3085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s are reusab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rovided fre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Event trigger and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rameter distribution mechanis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Lightweight persiste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‘parent’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main pan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Event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iggered by special button or link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the panel that generated the even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ccess to localized parameter lis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arameters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Defined similarly to the CGI modul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pecial ‘get_localised_name’ method returns a name suitable for use in an HTML form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Panel-specific parameter list then obtained using ‘local_params’ method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Persistence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andled by Apache::Session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omplete panel hierarchy stored, along with any attached data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ransparent to the programmer (no extra code needed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8T07:58:54Z</dcterms:created>
  <dc:creator>private</dc:creator>
  <dc:description/>
  <dc:language>en-US</dc:language>
  <cp:lastModifiedBy>private</cp:lastModifiedBy>
  <dcterms:modified xsi:type="dcterms:W3CDTF">2002-11-19T22:01:56Z</dcterms:modified>
  <cp:revision>6</cp:revision>
  <dc:subject/>
  <dc:title>CGI::Panel</dc:title>
</cp:coreProperties>
</file>